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F19-86AD-4D2F-AA68-3D9D01EA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0C4-C3FD-4202-958B-0E3ADADF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150-3DC8-4BE1-97C5-743C1F1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DFF-D17E-46D5-96EC-91700909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DF3-F409-42A1-AA44-1FFF465D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C94-5C28-4F15-BF1C-F7276EB5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A2E-2426-4F74-A6A5-CE65DED6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CED-A36D-43AA-98B0-8C7C0AA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20C-5356-4E50-9C48-5FC6FC7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45F-5FED-4291-B22E-8FA1BFF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B9C-F3AE-47B8-AA2E-00474BBC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B1C-13D7-49FA-B022-392A7B3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EB0-C2CB-4051-A2FD-11C27BFA8DC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kostyor.ru/student/?n=219" TargetMode="External"/><Relationship Id="rId4" Type="http://schemas.openxmlformats.org/officeDocument/2006/relationships/hyperlink" Target="http://www.kostyor.ru/student/?n=219" TargetMode="External"/><Relationship Id="rId5" Type="http://schemas.openxmlformats.org/officeDocument/2006/relationships/hyperlink" Target="http://www.kostyor.ru/student/?n=219" TargetMode="External"/><Relationship Id="rId6" Type="http://schemas.openxmlformats.org/officeDocument/2006/relationships/hyperlink" Target="http://www.kostyor.ru/student/?n=219" TargetMode="External"/><Relationship Id="rId7" Type="http://schemas.openxmlformats.org/officeDocument/2006/relationships/hyperlink" Target="http://www.kostyor.ru/student/?n=219" TargetMode="External"/><Relationship Id="rId8" Type="http://schemas.openxmlformats.org/officeDocument/2006/relationships/hyperlink" Target="http://www.kostyor.ru/student/?n=219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14360" y="1047600"/>
            <a:ext cx="8431200" cy="23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24280" y="3886200"/>
            <a:ext cx="426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олнила студентка филологического факультета 341группы Маланий Юлия  Владимировна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040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620200" cy="1914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152800" y="3124080"/>
            <a:ext cx="55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Что такое повесть?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024920" y="2666880"/>
            <a:ext cx="762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аково идейно-художественное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воеобразие повести А.С. Пушкина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«Капитанская дочка»?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04920" y="2362320"/>
            <a:ext cx="84722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ормирование нравственных позиций учащихс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накомство с понятием «жанр повести»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накомство с художественным своеобразием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витие умений анализировать, синтезировать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 обобщать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.Сочинение на одну из заданных тем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) Гринев и Швабрин: соперники или враг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) Образ слуги в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) Пугачевщина и ее предводитель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.Составить кроссворд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3.Иллюстрации к повест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4.Презентаци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Picture 2" descr="D:\КАРТИНКИ 1\Учеба\общее\ручки.WMF"/>
          <p:cNvPicPr/>
          <p:nvPr/>
        </p:nvPicPr>
        <p:blipFill>
          <a:blip r:embed="rId3"/>
          <a:stretch/>
        </p:blipFill>
        <p:spPr>
          <a:xfrm>
            <a:off x="4686480" y="1717560"/>
            <a:ext cx="28875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394840" cy="1086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6248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поры возникали о жанре повести «Капитанская дочка»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чем заключаются композиционные особенности повест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имволические образы используются А.С. Пушкиным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ие средства использует автор для раскрытия образа Пугачева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овы жанровые особенности повест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3" descr="D:\КАРТИНКИ 1\Учеба\общее\книга.WMF"/>
          <p:cNvPicPr/>
          <p:nvPr/>
        </p:nvPicPr>
        <p:blipFill>
          <a:blip r:embed="rId3"/>
          <a:stretch/>
        </p:blipFill>
        <p:spPr>
          <a:xfrm>
            <a:off x="64771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242560" cy="214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КАРТИНКИ 1\Открытка.jpg"/>
          <p:cNvPicPr/>
          <p:nvPr/>
        </p:nvPicPr>
        <p:blipFill>
          <a:blip r:embed="rId3"/>
          <a:stretch/>
        </p:blipFill>
        <p:spPr>
          <a:xfrm>
            <a:off x="2590920" y="2666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414360" y="-79200"/>
            <a:ext cx="8242200" cy="164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1.Вводное заняти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распределение по группам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2.Выбор и поиск информаци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3.Самостоятельная работа      учащихся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Unicode MS"/>
              </a:rPr>
              <a:t>4.Защита проект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www.kostyor.ru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7"/>
              </a:rPr>
              <a:t>student</a:t>
            </a:r>
            <a:r>
              <a:rPr b="0" lang="ru-RU" sz="3200" spc="-1" strike="noStrike" u="sng">
                <a:solidFill>
                  <a:srgbClr val="00a3d6"/>
                </a:solidFill>
                <a:uFillTx/>
                <a:latin typeface="Times New Roman"/>
                <a:hlinkClick r:id="rId8"/>
              </a:rPr>
              <a:t>/?n=219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(береги честь смолоду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www.litra.ru/composition/work/woid/00044501184773070500/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(3) http://www.referat.allserver.ru/?i=412808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студент</cp:lastModifiedBy>
  <dcterms:modified xsi:type="dcterms:W3CDTF">2010-04-29T05:34:53Z</dcterms:modified>
  <cp:revision>17</cp:revision>
  <dc:subject/>
  <dc:title>Урок обобщения по п</dc:title>
</cp:coreProperties>
</file>